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7090-AD51-4C36-A4F6-7CF0F0C88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8A71-328F-404F-8032-BAE9D0C2D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55AE-1B51-4727-BBEA-1A98CB82F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B34D-BD4C-4236-AC70-BE47DC892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84F7B-08D5-480E-9A8D-01996375B4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8E827-B2BE-4BCF-9A9A-126C289E18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3FD0A-60CA-4CFF-AFC4-CC55A196EF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D5800-4EA3-424A-A09C-8F073E2383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2B5A8-ED29-488B-BD62-E76D185836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E19E8-B4F0-4C83-BDE9-B7D8D27943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BB1CE-0B51-4CB8-9AC6-A9CDC7860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67E4-5698-4976-BF5D-C0F35E116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78459-68DB-443F-B9AF-2009E6E301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DC308-7238-4F20-AD8B-AE0B0B38F8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B29C3-6483-4B7C-BA5E-89B9B7347A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E38A2-3C23-48F2-98E3-E84620783B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57D42-2F1C-41CF-996D-23DEB7D42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60E5-0DE0-4805-83FC-C8E25DA02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83C8-ED39-429C-95C4-9FE8D52FA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8D64-5F7F-452A-BB57-4D99492B1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675D-C86C-4B6D-BDD0-6A4D83536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62E8-A70D-4F00-9CD2-177D2FA7B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1432-A188-4A1F-AFFC-2487A44BE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8CFC-FB52-4FE7-A745-000908888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75D737F-964A-4721-983C-16263B61B2F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057BF72-F234-4DA0-B8AF-02197E97C4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357CBF4-58B4-43F1-A4CF-12047EEB709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539EF25-8404-4339-B190-B7DF07A08C3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2-07-19T09:40:31Z</dcterms:modified>
  <cp:revision>344</cp:revision>
  <dc:subject/>
  <dc:title>Exploratory Data Analysis</dc:title>
</cp:coreProperties>
</file>